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92F-D49E-4A38-A852-7D4305A1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A94-0067-4DB0-BA38-05C5540A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146-03D6-4803-8023-92A8650F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0FF-5CB1-41C2-8E77-50B46F7A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469-F17E-4C96-913F-027480AA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78A-9F82-40EA-AE56-05A981C7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303-8DFB-4657-92DF-6D937885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655-3F99-48AC-A23B-D6E2C2AF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49D-6B80-40E0-A8BE-1373D196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AAA-2638-435B-8111-FE9D8A37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2C8-A3E9-4AC7-B3C0-600E16D3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945-3835-44DE-8850-0CCD862F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FCD7-10A6-48B8-8A46-3F083360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is is an Experiment in Uploading Powerpoint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8:26:18Z</dcterms:created>
  <dc:creator>SD45</dc:creator>
  <dc:description/>
  <dc:language>en-US</dc:language>
  <cp:lastModifiedBy>SD45</cp:lastModifiedBy>
  <dcterms:modified xsi:type="dcterms:W3CDTF">2008-06-18T18:37:18Z</dcterms:modified>
  <cp:revision>2</cp:revision>
  <dc:subject/>
  <dc:title>This is an Experiment in Uploading Powerpoint Files</dc:title>
</cp:coreProperties>
</file>